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098-DF59-4942-A8B1-C6816B21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740-86BD-4B2B-84C6-C43C33EB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000A-F35D-49B3-95C1-79FC18AD1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37F-C3A5-4918-8815-5C0CB7E1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C56B-1B8F-4FC9-AA6A-E72A81E6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D17-7F37-41F5-9FA7-4974CA46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8F1-77FC-4EE9-B5F1-964FA916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8528-5B83-47B7-B14F-AAE27F0E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00EB-1A9E-49E1-A79D-251309F4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C84-EA92-4B48-8F37-15B5F975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DF8-3141-42C8-93A0-42265DA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886-A0D6-4226-B6F3-8F073EF9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C81D-EF84-40E8-8053-6AD316E1A7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Mozambique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ersion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community lead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48466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formation note on market location, date and K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imGoats project staf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local consu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99896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October and 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upport from Vitorino  (CA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study on consumer preferences – by stu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Birg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dono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44244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ccess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  for editing  - Comms for lay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sheet  bas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g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 end Jul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  for editing  - Comms for lay o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in f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 comms – local film crew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websi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rivate produc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8816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intera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to 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 to ass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visits from producers to their fa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 to ass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hange of contact details with IP secretariat and private producer with 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a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roducers and model far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1297080"/>
                <a:gridCol w="2746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ur brochur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: animal health, commercialization,  management  (e.g. comic incl. improved kraal and communal grazing areas) and IP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f aug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 from CARE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phic desig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rgit for drawing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2 modul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grazing areas and commercialization  to be added to existing training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er (before refresher course of parave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 will make commercialization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will make module on grazing areas, input from Msc student stu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hange visits between different produ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until end of pro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 depends on theme of exchange of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io message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produ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ugust, October and 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support from Vitorino  (CA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Buy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4496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Small information no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n market location, date and K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imGoats project staf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io information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or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vets to inform IP about nr of anim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parav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s with paravets and tra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arave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68360" y="1413000"/>
          <a:ext cx="8229600" cy="5303880"/>
        </p:xfrm>
        <a:graphic>
          <a:graphicData uri="http://schemas.openxmlformats.org/drawingml/2006/table">
            <a:tbl>
              <a:tblPr/>
              <a:tblGrid>
                <a:gridCol w="3105000"/>
                <a:gridCol w="10810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vet refresher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 Additional modules need to be developed. (see producer sl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isual materials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laminated shee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 the same topics as broch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 /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Octo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:  graphic designer, art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nsion officer vi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esso /Faust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 on nr of animals for fairs to IP secr &amp; interact with commu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 parav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each f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exchange visits: in Inhambane other outside provi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nd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SDAE and paravets on a monthly ba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to support 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adio (Availability of inpu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Aug, Oct and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torino to facilitate broadc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buyers parav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retailer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s of extension offic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ustino/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hange visits with retailer in Mab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ing of products at fai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y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 to inform  retaii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Slaughterhous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ite to I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end of 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 buyers-parav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Prov. Livestock services - SP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76892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P (Dr. Vicente) to visit comm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BC, ideally Au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 (to be discus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 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 available and affor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ing reports, presentation, brochure, success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sk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e in I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district authorities - SDA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515952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meeting with parav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 to support 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Ju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 to model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o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ion in fairs – inspection, transport lic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D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every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zing areas: visit and mark pasture area in each community  (cadas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/SDA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visit before end of Ju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will need to support with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work plan of activities and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 information note on market location, date and Kg pri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fore next fa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imGoats project staff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district administratio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7200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meetings to discuss grazing areas and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and D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t to commun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 secretari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u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E to provide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Hendrickx, Saskia (ILRI)</cp:lastModifiedBy>
  <dcterms:modified xsi:type="dcterms:W3CDTF">2012-07-06T06:56:20Z</dcterms:modified>
  <cp:revision>22</cp:revision>
  <dc:subject/>
  <dc:title>IM Goats action plan July 2012</dc:title>
</cp:coreProperties>
</file>